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2C5-EF55-4C3E-AD4C-73838461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B7E-5004-486F-AFAB-40ADDCD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566A-BE34-4F6E-A13E-C599BF5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25F1-F9E4-4BFC-A745-B4B0BE8C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9304-D535-48D6-AEA0-38975D7F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20CE4-1E6C-45EC-9A0C-CD48688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3FFFC-32D8-46FF-83E0-C38C3B0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0E9C9-8EFF-4861-AF4A-42DCDDC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3F5F5-CE9F-4327-832A-E112F57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794BE-C4B0-4DBA-BA16-B1D65F3A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D0489-631C-49FB-BDD4-CEDD995A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4B9BE-2127-4744-B74B-1A2727DF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C1E-D0E6-4A80-9245-4972CA83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6F8EE-A8A3-4DF9-B4E2-C3B4D5E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8DFCC-BB2D-4FC9-BA50-4D2454F4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E38ED-F0A0-485D-97B6-1436CD8D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F3329-1095-4C96-B4EB-3FD18CA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855C5-605E-48F8-8132-04A6A607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638D5-3475-46CA-8559-DE1FC32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8EBBC-9F7A-457A-893F-DC8EFE2F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C9C9B-FDCA-4BC3-ABEC-71BB831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C023F-D850-4DFA-9F2E-1E8E5B9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4B11A-1FF7-4BB0-ABFB-BC95EED2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F00-8706-4814-BAFB-C910C928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088D8-41B1-4DCE-AE6B-06E634E8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EC198-7FB4-4400-8CFC-426FA5A0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4ABB7-A1CD-490B-9EFA-36067090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BAF5B-DB44-484D-90C1-D87F6FE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52A76-440E-4242-B924-E187FDEC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A85B9-E6E5-4C0F-8B3E-435D177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4ED55-24BC-4CDF-90C2-8516B01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347AF-4CC8-4CE7-BA7F-2A4D9D3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DB3C-4557-4CD6-8680-9D95F4C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D1DD1-9C07-45B4-B739-7A45E4E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548C-0F00-4562-B4B5-F0CFAF24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52ECB-6153-4D0B-AEBC-3A21D878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E9D7C-E3E1-485F-8F50-A8F5C89E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1AEDE-483B-4F18-B595-CCBE33ED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42E59-D46C-457B-8E31-7B289557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875AA-EA22-4F03-ABE6-97102D43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008AB-CF3F-4FE7-94D2-510C6016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21777-8D88-45A6-82B8-D559F993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12B64-1ED5-41CF-BAC3-46BD50F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9926D-0ECB-491A-99B8-A4B6EF0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44CFF-E517-4780-B068-E9ADE8C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C22-0019-4E13-A563-5BCB5ADA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44DCE-DC86-4DE4-8FA2-1985DE0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432DB-7994-4762-98C1-B573E74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15A2B-16A5-43C7-8081-952676D2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CB3BC-06C7-40C1-9193-187A318A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0D37B-B964-45C3-8DF8-83905379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4300D-DA07-4BD8-9469-2ED342D2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82F8F-EB7D-4DCE-BF96-FCE0E551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BA614C-CC2B-4A41-AE71-DDCDD50E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55A47-8030-435A-9958-D5E7A474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CB8DB-F4BE-4874-BA34-6D6EE23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375A-505C-4E7C-8DB1-E8ECC3A5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A3610-9BFF-4FCA-808D-A2448AA2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8303C-808C-42D0-845B-509135C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FF929-67CA-4871-A1A8-206D6DC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2C1A6-7A00-45BE-8E14-79AC18B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46F42-19A9-44E2-A9D8-A749997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6982A-7374-4474-91C8-BB39E0B6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42BD3-CFA7-48D7-B7C5-D86786FE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5B39A-99A5-4F80-AB13-AA750CE6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6A4C2-5650-445F-8210-F141D70C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6CEB5-C53D-45B7-82EB-6D117FEA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B9A5-0689-4FD7-AA21-84FB984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AA62D-E621-4A10-9D3E-D3D35F6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FB7E7-B693-4B0A-8868-82EC802D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CF2AA-F874-4D20-81C0-E865D063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191BE-F1D4-4D26-96B0-D7454EE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117DC-1A81-4553-8A1B-06AE239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F8817-E356-4D1C-973C-0C88A14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AC04F-4448-4DBC-BF8B-96154AC8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D7DEB-FE03-47FC-B449-9BC087F4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01556-2780-44B3-AB07-C9B7B95D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6047F-DA75-423A-9466-6D1976E4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662D-EB12-46C7-8868-BE11048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6A837-9001-417F-9733-4BF2278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B846A-49EB-467C-94CF-573898A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9150B-808B-490F-9BCE-A01DC73A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A27BC-F733-4866-90FF-88D2CD57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30A8C-A028-4BE4-8204-F5BEF0A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15761-0BF2-43C5-974F-A270917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1F9EF-701B-486B-83F4-1B18504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FBFA5-6CF3-4DA1-84F2-D1CC26CD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124DE-4892-400B-B218-39D137EC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B2D61-6300-4C0E-BD9F-F27183C9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7CB2-5F5D-4F7C-A951-D3A7CB30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D853C-11E6-4BA5-B49A-A68A005B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71C92-D4E5-4B19-A2F8-B3131898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39AF3-E197-49CA-A22A-C3A3871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98312-5D19-4DB5-A6B3-15100AD4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C0195D-53D2-4D56-BCB9-4472615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79DF8C-4DCE-44E3-91FA-DB6CCE0D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79E4F-E50B-4190-B4D9-3B2B379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0DD49A-08E7-4EF0-AB77-FA89284D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95CD2-65F8-462A-92F9-BAC6FCC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4F9477-9ACC-4D31-A6FF-AAC7B1C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3A5-5934-4D70-B69D-F6B65D44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72D011-2A87-4F89-BE05-4B039654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CADDE-B824-49EF-83C3-B7E98746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8EDA7-7E66-4532-A0B9-44A4F294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341BD-5DD1-423E-886A-5DAEBE65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9745A-8CFD-4723-B120-DDC45305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32708-6C07-41AD-9A3D-555AA60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C4447-3BEF-42AD-AE78-B37A6E68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037AE-7DF8-4D1F-BF9E-D70F96D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2BF8C-E08E-4ED2-9D72-2D87CC34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B1E25-9ACA-4181-9BF3-2E7C784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93A-617A-41DB-9AAB-1ABFB367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F300-FF11-4B22-A1DA-A5EBAC41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27A50-2987-4E78-AAC8-6096DC7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283ED-A286-4A1A-A929-D049941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CFA8E-E0D1-456F-BAD6-6AD5409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A201EE-71AD-4DC4-B9E6-6C48DF39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00DAF-2E67-45E7-8F7E-0D81D11A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18632-615D-4A96-84B0-E5885E4A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F61A7-036D-46CB-9BDF-5584E31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88EF4-34AF-4D23-82BE-70AA4AEA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6E3E4-C8EC-4A94-B008-33BBB64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1CBA0-AEBC-4EA4-A588-D238094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1F17-0935-4D87-908B-C61669B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65973-E749-4E3F-89E3-6A6CD601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76413-A7DA-4E0C-AF91-5004C52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218B7-A516-4500-A70F-E22199E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CFFF0-E1FF-47B5-A847-66156F64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BADF8-E3DC-4999-946D-C969637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B38BB-F987-4E9D-BA39-4E898136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3C08C-EFBC-4BB5-A22B-20469302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5B4D9-F88F-4479-967B-3FF91EB7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041BAA-B094-431F-A80A-6C3D7F82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37404-7789-406A-8B99-2B5C63B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1AB-F785-44AF-B6D8-C9851BD1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03CDF-2CB4-4818-8C63-0083B3D3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21DE3-0F33-441E-9806-D1675463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9A0E4-BCCD-4702-BDA1-9236296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3BCF6C-05CC-4701-919B-477030BB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37F7F-CE28-45DD-9BB6-F635F9F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B6828-52F4-40C0-BD1D-7165F4B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2A21C-2B90-41C4-B6AE-A320EA88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B437F-4E12-4AD5-9950-2CC5B9AE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DE4FDF-DB75-4D36-8671-C686F53D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08142-2E0E-4B86-9EB3-E6607D11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EEAE-A489-4F90-A193-6B0EAE2A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6DB112-BD97-4F5B-AFD3-73EE8284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58810-DD20-4528-BB65-CDF4B38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CF07D-7C02-422A-A215-0BC10820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FE6532-8F71-4DFD-B707-22DBF702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B3C0AF-6460-421C-9106-AC4DF03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F8FE0-B0CD-4DF8-871A-71899F9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5865A3-F4C4-4A43-985F-9D70F29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C45BF-A996-4246-9C6A-B3539A78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04AE9-454F-4252-A7D3-8F23B465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33FC14-89D2-4A57-9C46-3D5E23D4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4897-7BF2-4064-B0D3-44EFA07B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EC5397-3032-4329-B472-B7E67348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2ECC2-B626-4512-B838-6C11B947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FF704-2F9A-46A9-87D1-AED30775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45DBA-A420-46C4-9D36-42B3391A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8148C-287E-4DBD-9BAB-9BFF6018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EC6C1-2DBA-4EFA-9941-6C22361D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24AF8-78E9-4E9A-AA9C-3EBE9316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B801D-5B51-4506-96BC-C3E9C050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516B28-F394-414F-809B-BDA30FE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6FC97-6C27-411C-9098-B3A7D96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1B51-E838-4B4C-83FD-592D79D0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DD547-250E-4057-AD5A-6FB4B73F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7F42A7-1A1D-4DD1-B8AF-C77029D1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57E8D-A0FC-4375-81D6-C5A9D661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1AC09-91C3-49F1-9AD4-12A56684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AD0D19-4F82-4978-8534-7FC76D88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DAD230-F237-44D1-B670-2380A429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DFCD9-9207-4F1D-9100-8AE0428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F8B63-9219-43C2-A107-7237BDD0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60B9AB-4EC8-43E4-9352-3E1C573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64AC5E-55C0-4C59-8312-51CC1BC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DEC8-383F-404F-92FA-056095E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B4A8C2-27A3-4BC3-BF4F-5CFA60D7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98EA85-D58B-4C09-800D-73C1025B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F5C87-126A-43BA-B1F5-3CD261F6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06CCAA-144B-4A6A-BF4A-D7887247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7FC8A-5FB7-4582-A81D-68E86B14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C73EBF-8AD8-4DC7-8753-F85AB952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AAE911-E50B-44AF-8C19-3340322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83591-071B-49AE-B987-903C85F6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9C836-F397-4C25-B0D5-78C3452F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69A97-01DD-41F4-9780-89361E4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B994-95B5-4BAE-9475-086AE1EB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44AF3-0BB3-47E1-90EB-A15F963B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95D360-B9B9-417B-8280-3A9A6BA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F264A6-D04B-46F5-A03A-5B43AD8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3D6A11-AF93-40EB-BEE4-D19A2AC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776B26-4E53-4A7D-8F4D-3FE342D2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EF809B-CAEB-4E9A-B77B-2C7228D0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54379-A801-42D3-9E4A-EAFD5650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AC9E45-B9D4-4B90-9EE2-2A2546B5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843A03-82F4-49BF-95E1-FF8BB3E3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CB5393-B410-4661-AECA-8C39764F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6BA9-A364-401B-B6CC-157E6975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C1C75F-154D-4911-B97D-A6911797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1A7421-E0BD-4B82-86E8-CC9D370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64F054-4F24-44FB-9B85-258C577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E8413E-79BF-4D2F-9494-DA0EE78C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FCF185-9E29-4852-A30D-946F2F5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4D433C-215E-4E6D-A136-FA27A60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018BC-84CD-4EF9-8ADD-172F0EB0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F477A-9383-4345-ADF1-84D6F50B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186BC-91BF-4C24-8596-01835400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550AD4-C3DF-47A6-9352-94456B5A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F2BA-EDA1-4C3A-8B70-E739C0F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EEAA2-E7FA-4F38-BDF1-8B5AC077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A78B75-6E67-4996-8130-A9C2B07B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1FA121-4A90-4ACB-A473-14064E2C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A3161-F490-450B-81B5-F58C651D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4EFA69-57CF-4788-96DC-349C838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7A58B5-5381-4F79-A59F-DFFC8A5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73FF2-AA87-4D92-A74E-2E22F3B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4F822F-6D72-48C1-8671-E279D08F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083BFB-8ED8-48C3-9C7D-619471A0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3755CF-0401-471F-8CDE-AFD711A4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D13-8900-4B2D-8C0B-6D9261FF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93C3-155B-47E4-A297-E8E2FF12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68E2BE-BF7E-4341-B5EC-FDD09BFB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56220E-7065-4BF1-A885-D2CF2F01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DAE01B-CE48-4BBC-B62B-3290E9C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0E1DDB-A7FA-4492-89B6-B9325EF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A2A0BF-EC99-47AF-9BAF-31CB4F28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6F814D-9D80-43D5-80F4-5162EEE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B6BB60-E90E-41C7-82FC-789C4598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B88DB2-288D-421E-B60D-62E1A5E7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745FA4-DFF0-4BF7-B3C4-0A6C82A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3BA08C-0F4B-4B8E-9DB7-EB2D5C49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53B0-5E36-411F-B4C5-C17BE98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F198DC-A3E2-4171-8C36-41B7A8FF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DE6097-6D1D-47A0-8355-D0E75C44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DF63CD-5492-4166-A25A-A6C009B7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435752-4847-42CC-938D-C47FBD68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8D64D3-7789-4234-BD56-192059D5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53EC0E-3A1B-42A4-A61B-D101277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251D22-FAA6-4DB7-8B0A-41A9551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EA45C-BCA6-43C7-82F8-50D06A9B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9363F3-74DD-494B-9B77-21E6EC20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9F5D9A-49ED-4CBB-86A1-A2D57A03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11F3-EF6A-4A2D-AC0B-7DC044B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56A53D-DFCC-4EEC-BF97-B4D0004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FE4A79-BBEC-48B8-9EA3-45EBD0BC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DA964A-CBA0-4088-9BB6-7D7DFCD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46F897-B37B-4F54-891C-CFC5BFB3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486264-E650-4ED0-850E-01A3DF7A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06C770-7E5D-44F4-B507-24F0B2C7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599741-BE34-4CE3-BF60-17DBCE9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8C514D-DBB2-4C98-B568-00FAB91A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FD8D50-F966-4EBF-BDD6-793D088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88973E-E2A7-40B2-BBEE-C9F41DA2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7D77-0E98-4BE2-ABC7-26417778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6F84E2-8635-4F4F-8E70-F67C24DF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3D8158-8405-4792-8451-F02CA1B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1C5DD2-8C15-44B2-9CDE-07BCA14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7D75B6-2949-46BB-AE69-0D7C6C0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4B061D-3C11-4555-AC9E-B55DB5F6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9CED7E-91FC-4DC5-9798-610EAD8B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B61587-38AD-4A76-8A55-60AE5E92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51F2AC-E659-4067-97CB-6923D2A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11C179-0085-4E3C-A8B4-F7AD3E0F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D7CA40-5201-4469-A1AB-E4043A95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1526-78BB-442E-A55F-ED93FE1D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C61C98-649A-4CEE-9FAB-D6BF55CD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63F1C6-05B9-4E5B-89B6-7CECC0C0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8564BE-E832-47AD-8E29-241C128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824487-DDA2-473E-AF0F-62FACD7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DE2A7C-0DEE-43C3-94FA-35709AB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DF9833-829A-4CA9-AE01-E03BB48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595075-3563-4342-A991-623682FC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094076-7360-45AD-9F6D-2A21A963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089100-4F3D-4A28-B8B4-F228D9DD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4DFC15-919D-4D0A-8A39-17CA3F94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7E21-D088-4FE5-B06C-F36BAFC2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D85D27-C036-4F23-B187-95DBAEB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7EE80F-B182-4F6F-B79F-ABAE98EF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EB775F-2B71-4757-A896-4AB0476B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B682E2-096E-4068-8D40-CBEB683E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35B80C-E9A2-41AC-B7B5-3DE6793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25FFA-8310-4749-9D96-850F1B1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77C446-7040-47CB-80E8-B4A57C1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E0AB11-2B5A-4F1D-BFEA-7DC8DEF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2CFA58-0C7A-48F7-B660-923AFFE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5ABA29-DC32-4CD4-856E-7C7C33C4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6A3E-3421-402B-8FAB-D984024D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544127-7A66-4807-B7CF-43E783CC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62BECD-B9FD-4E25-813F-B863668B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D51B9B-7E82-4296-8764-65976362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E52C35-E575-43E3-A66C-62F53226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DDAAF0-E325-43FF-92F8-8EB2CD6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EF605C-FA00-4725-A2CA-20C37F92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BA4B3F-3281-482F-BBB4-836703CC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4E3508-9E23-4C53-BF89-743A4C54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D21112-AF1B-4116-95F0-EE1B174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713D07-2B23-43CE-8BD9-E36E285D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6CBA-2397-4523-B4E4-FFD5CA63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6602D4-3D1B-4B74-A7E0-604B8EE1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ADB570-5B9F-439E-915C-13ED97DF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91CF3F-FC71-49BF-BFFA-DFA104CE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7FDB-E3BE-4F04-8E9D-B0960F5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78637-41C6-449C-93D0-39A69E9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544-AE02-424B-9FCA-947FD4A3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06DC-F1B5-4593-BE2F-AC1E31AD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40CD-C703-478B-9448-5168500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DD093-9ACA-48C5-A3BA-E08B15E3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76C4-6109-4F52-BC89-8CD85DF0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6431-D696-49D2-AA2A-BC17185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92ADF-3EE1-4ACC-A9E0-E639EA29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19BFA-2420-4510-80EF-4C608AB5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D3E8C-2FC9-4F89-8FAC-A57EA745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9F7A-B0E5-4ABD-A758-0BD81028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725D-709B-4868-A9CB-AB4BAB9F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A8E-2BCD-4E26-BA11-21FC02A2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3A3C-543A-480D-B823-DF94C73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A923-CA41-48BB-AC12-59407CAA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ACEC-20F6-4123-B640-F37D2E2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9140-554A-4479-ABE3-C62248F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BB321-08A0-4476-9F0D-1FBCC5E8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854D-9C15-42C5-B8C9-A5AC81D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A62D-E261-4F34-98CB-7C6A537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708F1-8B08-4D20-9E76-C4486C0F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66A11-C672-485C-89CB-672BF62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0E14-4C9B-4941-8273-16EB8C52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D1E-6EDC-497C-B9B2-56BB1CE9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A2E2-3FB2-4FB3-B9A6-8548EBE0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DBA6-0349-4B6C-827A-EA225560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CA7C9-EA66-44C7-8698-07C913F2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4768E-ABDD-4721-B3EB-AB4EB8CE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4B98-D208-4F67-808B-2889594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8413-3FC3-4EAF-B724-6D432D18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2674-ABC7-4C45-A858-084D7DF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8F5F-A9BC-4ACA-9D8B-C218435C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AA52-90E6-45AE-BA76-3173F00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B19C-4FF5-4BE6-83C1-F880B05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0DC-5B21-4E57-8865-3E03DE72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8EF0-A611-4F3B-BF6A-510841A4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B5924-2388-4668-B7B9-0E47582E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9B06-BEF6-4C4D-9C50-B8B26104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3FFF8-244A-4648-95EB-B1A38A29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F051-3046-4D37-8B30-5140020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E9B54-2062-4E59-9CC7-2644DB4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62512-E040-47A0-901E-FAF37CA6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A4A6-DC80-4EA9-94FD-ABD50228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6A44D-474A-41B9-8E2B-BFC1DC6D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1FA83-CA52-4948-9BA5-2EC11855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649-9919-4E83-A905-97F9CA55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5910-FA18-44CF-A104-9E2F85A2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950A-C887-4A37-9E18-4986C135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0CA9-56B8-4B09-AFCB-D249640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F46C-6F2B-4976-AA6F-E22C7DC4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C53FD-7DA1-453F-90A7-C09D839C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E77B4-E674-4B26-9636-0F388747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1C0A-08C3-4D04-9E77-E633C57B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BED67-5F17-461F-B04A-C4A5A77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51B63-D004-41F2-961D-A9D28010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737AB-DB94-430F-B24F-D33A4815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7E4-5CB5-4FE8-9BC7-1D3672D7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EAFB4-406F-4DEF-9005-67DA9B01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8205-65A7-4D74-87FF-9DA6345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5A909-7B35-42AA-85AB-39CD8BD5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DBC6-0717-4B31-AAC4-E43E0AEC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50D48-C276-4412-AF1D-D70C0F5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FC327-94F2-4949-937A-79BF960A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6A0F9-70DC-4AD3-B703-38CB08F9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4E273-F71C-487E-8B6F-BD9D51F2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931BC-49B3-4B28-9445-BA762FC6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5DE76-B5C7-40F4-9B47-229086F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9CA3-06D7-4EF6-97FF-F5CAE355C2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9578-03B3-4CD1-AB04-C8281DCB8B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A55-4C49-4165-B679-FB2289D34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4B2B-A937-45DA-8071-8AAC1DD0A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2E7-4656-417E-9B40-B1FC62D2EE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DB99-068D-4F52-B991-8FD014D47A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9ABF-5EA9-4DD5-A763-C45D286F8B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4FD9-08AE-4264-9DEB-C42A31C95C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803E-15BE-46A6-9C63-A5A309A4B2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DFE-6FA7-4FBA-8A00-4369B9958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298-98CB-4E14-9EEE-448F75297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026F-2712-44C5-8C66-CF78CA5EB1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209-C1AA-4945-BDEA-F9E3A74305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47C2-51CA-45D3-9658-315E32E4A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3C49-EDDE-4C08-BDAA-E2642CD53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324-673E-4F3F-93B1-F78564BF3D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153-772F-4772-B9F4-29A09E855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D0A1-D393-4158-B0DE-2A297C021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AF44-A1DD-4467-8324-3E4EB31B8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0A94-64DE-4776-A6D0-1EC4EADFE4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0BE9-FB82-4B20-94C7-7E6EF0F0E0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9F22-159F-49CD-84F2-5C553328F8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C0C-C711-41D7-9AA4-3A9017C690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7993-59E1-40DF-9DD4-4195B0C5D3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C19F-6964-46F3-B959-0DB2B30600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5FCA-25B8-4657-9956-B406EC84F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8FD3-976B-4A7C-9AC6-AE6C80E088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90AB-5F12-4179-95D0-5EF559AD68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2D88-9D50-4EFF-9419-442F90B57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E78-DF4E-4FED-9142-6D0AF2CC2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AE80-C30D-44B5-A1B8-76A17D634E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B598-2B4B-47C8-AD95-DD520B4DD7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736-C136-4FAE-B2C7-7537035CB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5A48-E6E8-4D8C-B0B4-D7E881399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FE95-3995-4718-9AED-BC5446500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49B6-1D91-466F-8AE6-D2FF605540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20F-2BE2-4E17-9BD5-BE4653D384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F8C6-C6F5-44A6-B98D-B971F1BCA4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628-EEFC-4948-849E-A50CFDC1E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6CE1-8E55-42EB-BC72-F632362411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A5A1-898F-406B-9E2B-470AFC57D4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492C-05DA-4A58-81E4-6DF3CAB278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7C6-1545-4979-A2D2-A7B29852F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98BD-8B8E-4199-AAF2-DDCEF978FB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3AF2-32AD-4719-9781-F63243E524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803A-2D2F-41C3-97A2-1865613581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5C3B-E411-44AB-BCA2-009C6A4F42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3F36-0EDD-431D-8163-FE32B2FF67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B6AE-933F-4F1B-815A-A27FD80FE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14E1-BA31-40A0-AAB1-E26D70CEE1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828880" y="1079640"/>
            <a:ext cx="3029040" cy="45720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020600" y="2178000"/>
            <a:ext cx="3038760" cy="453384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4816440" y="3067200"/>
            <a:ext cx="3067200" cy="11808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6013440" y="3019320"/>
            <a:ext cx="1973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4832280" y="3362400"/>
            <a:ext cx="3192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4756320" y="3654360"/>
            <a:ext cx="3192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4743360" y="3997440"/>
            <a:ext cx="31924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32097" descr=""/>
          <p:cNvPicPr/>
          <p:nvPr/>
        </p:nvPicPr>
        <p:blipFill>
          <a:blip r:embed="rId1"/>
          <a:stretch/>
        </p:blipFill>
        <p:spPr>
          <a:xfrm>
            <a:off x="231840" y="839880"/>
            <a:ext cx="8020080" cy="5457600"/>
          </a:xfrm>
          <a:prstGeom prst="rect">
            <a:avLst/>
          </a:prstGeom>
          <a:ln w="0">
            <a:noFill/>
          </a:ln>
        </p:spPr>
      </p:pic>
      <p:sp>
        <p:nvSpPr>
          <p:cNvPr id="1381" name="矩形 132098"/>
          <p:cNvSpPr/>
          <p:nvPr/>
        </p:nvSpPr>
        <p:spPr>
          <a:xfrm>
            <a:off x="781200" y="4797360"/>
            <a:ext cx="685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2099"/>
          <p:cNvSpPr/>
          <p:nvPr/>
        </p:nvSpPr>
        <p:spPr>
          <a:xfrm>
            <a:off x="755640" y="5394240"/>
            <a:ext cx="685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2100"/>
          <p:cNvSpPr/>
          <p:nvPr/>
        </p:nvSpPr>
        <p:spPr>
          <a:xfrm>
            <a:off x="755640" y="5952960"/>
            <a:ext cx="6850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图片 131073" descr=""/>
          <p:cNvPicPr/>
          <p:nvPr/>
        </p:nvPicPr>
        <p:blipFill>
          <a:blip r:embed="rId1"/>
          <a:stretch/>
        </p:blipFill>
        <p:spPr>
          <a:xfrm>
            <a:off x="700200" y="873000"/>
            <a:ext cx="7362720" cy="531504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31074"/>
          <p:cNvSpPr/>
          <p:nvPr/>
        </p:nvSpPr>
        <p:spPr>
          <a:xfrm>
            <a:off x="819000" y="923760"/>
            <a:ext cx="5923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1075"/>
          <p:cNvSpPr/>
          <p:nvPr/>
        </p:nvSpPr>
        <p:spPr>
          <a:xfrm>
            <a:off x="692280" y="1469880"/>
            <a:ext cx="59227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1076"/>
          <p:cNvSpPr/>
          <p:nvPr/>
        </p:nvSpPr>
        <p:spPr>
          <a:xfrm>
            <a:off x="730080" y="2028960"/>
            <a:ext cx="5923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1077"/>
          <p:cNvSpPr/>
          <p:nvPr/>
        </p:nvSpPr>
        <p:spPr>
          <a:xfrm>
            <a:off x="768240" y="261288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1078"/>
          <p:cNvSpPr/>
          <p:nvPr/>
        </p:nvSpPr>
        <p:spPr>
          <a:xfrm>
            <a:off x="577800" y="317196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1079"/>
          <p:cNvSpPr/>
          <p:nvPr/>
        </p:nvSpPr>
        <p:spPr>
          <a:xfrm>
            <a:off x="590400" y="369252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1080"/>
          <p:cNvSpPr/>
          <p:nvPr/>
        </p:nvSpPr>
        <p:spPr>
          <a:xfrm>
            <a:off x="603360" y="4289400"/>
            <a:ext cx="72817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81"/>
          <p:cNvSpPr/>
          <p:nvPr/>
        </p:nvSpPr>
        <p:spPr>
          <a:xfrm>
            <a:off x="730080" y="5216400"/>
            <a:ext cx="7294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1082"/>
          <p:cNvSpPr/>
          <p:nvPr/>
        </p:nvSpPr>
        <p:spPr>
          <a:xfrm>
            <a:off x="641520" y="5813280"/>
            <a:ext cx="7294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图片 130049" descr=""/>
          <p:cNvPicPr/>
          <p:nvPr/>
        </p:nvPicPr>
        <p:blipFill>
          <a:blip r:embed="rId1"/>
          <a:stretch/>
        </p:blipFill>
        <p:spPr>
          <a:xfrm>
            <a:off x="774720" y="1144440"/>
            <a:ext cx="7086600" cy="1648080"/>
          </a:xfrm>
          <a:prstGeom prst="rect">
            <a:avLst/>
          </a:prstGeom>
          <a:ln w="0">
            <a:noFill/>
          </a:ln>
        </p:spPr>
      </p:pic>
      <p:sp>
        <p:nvSpPr>
          <p:cNvPr id="1395" name="矩形 130050"/>
          <p:cNvSpPr/>
          <p:nvPr/>
        </p:nvSpPr>
        <p:spPr>
          <a:xfrm>
            <a:off x="831960" y="1216080"/>
            <a:ext cx="6011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30051"/>
          <p:cNvSpPr/>
          <p:nvPr/>
        </p:nvSpPr>
        <p:spPr>
          <a:xfrm>
            <a:off x="819000" y="1787400"/>
            <a:ext cx="68248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30052"/>
          <p:cNvSpPr/>
          <p:nvPr/>
        </p:nvSpPr>
        <p:spPr>
          <a:xfrm>
            <a:off x="831960" y="2359080"/>
            <a:ext cx="6824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9025" descr=""/>
          <p:cNvPicPr/>
          <p:nvPr/>
        </p:nvPicPr>
        <p:blipFill>
          <a:blip r:embed="rId1"/>
          <a:stretch/>
        </p:blipFill>
        <p:spPr>
          <a:xfrm>
            <a:off x="200160" y="1025640"/>
            <a:ext cx="8210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28001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601040" cy="4400280"/>
          </a:xfrm>
          <a:prstGeom prst="rect">
            <a:avLst/>
          </a:prstGeom>
          <a:ln w="0">
            <a:noFill/>
          </a:ln>
        </p:spPr>
      </p:pic>
      <p:sp>
        <p:nvSpPr>
          <p:cNvPr id="1400" name="矩形 128002"/>
          <p:cNvSpPr/>
          <p:nvPr/>
        </p:nvSpPr>
        <p:spPr>
          <a:xfrm>
            <a:off x="907920" y="1101600"/>
            <a:ext cx="1973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8003"/>
          <p:cNvSpPr/>
          <p:nvPr/>
        </p:nvSpPr>
        <p:spPr>
          <a:xfrm>
            <a:off x="870120" y="166068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8004"/>
          <p:cNvSpPr/>
          <p:nvPr/>
        </p:nvSpPr>
        <p:spPr>
          <a:xfrm>
            <a:off x="831960" y="225756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8005"/>
          <p:cNvSpPr/>
          <p:nvPr/>
        </p:nvSpPr>
        <p:spPr>
          <a:xfrm>
            <a:off x="793800" y="2803680"/>
            <a:ext cx="5008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8006"/>
          <p:cNvSpPr/>
          <p:nvPr/>
        </p:nvSpPr>
        <p:spPr>
          <a:xfrm>
            <a:off x="793800" y="3387600"/>
            <a:ext cx="5008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8007"/>
          <p:cNvSpPr/>
          <p:nvPr/>
        </p:nvSpPr>
        <p:spPr>
          <a:xfrm>
            <a:off x="793800" y="3933720"/>
            <a:ext cx="5008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8008"/>
          <p:cNvSpPr/>
          <p:nvPr/>
        </p:nvSpPr>
        <p:spPr>
          <a:xfrm>
            <a:off x="781200" y="447984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8009"/>
          <p:cNvSpPr/>
          <p:nvPr/>
        </p:nvSpPr>
        <p:spPr>
          <a:xfrm>
            <a:off x="641520" y="5025960"/>
            <a:ext cx="5008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图片 140289" descr=""/>
          <p:cNvPicPr/>
          <p:nvPr/>
        </p:nvPicPr>
        <p:blipFill>
          <a:blip r:embed="rId1"/>
          <a:stretch/>
        </p:blipFill>
        <p:spPr>
          <a:xfrm>
            <a:off x="355680" y="874800"/>
            <a:ext cx="8610480" cy="368604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140290" descr=""/>
          <p:cNvPicPr/>
          <p:nvPr/>
        </p:nvPicPr>
        <p:blipFill>
          <a:blip r:embed="rId2"/>
          <a:stretch/>
        </p:blipFill>
        <p:spPr>
          <a:xfrm>
            <a:off x="380880" y="4668840"/>
            <a:ext cx="8458200" cy="168588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40291"/>
          <p:cNvSpPr/>
          <p:nvPr/>
        </p:nvSpPr>
        <p:spPr>
          <a:xfrm>
            <a:off x="6470640" y="168588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2"/>
          <p:cNvSpPr/>
          <p:nvPr/>
        </p:nvSpPr>
        <p:spPr>
          <a:xfrm>
            <a:off x="5137200" y="22068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3"/>
          <p:cNvSpPr/>
          <p:nvPr/>
        </p:nvSpPr>
        <p:spPr>
          <a:xfrm>
            <a:off x="3206880" y="26892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4"/>
          <p:cNvSpPr/>
          <p:nvPr/>
        </p:nvSpPr>
        <p:spPr>
          <a:xfrm>
            <a:off x="6610320" y="26766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5"/>
          <p:cNvSpPr/>
          <p:nvPr/>
        </p:nvSpPr>
        <p:spPr>
          <a:xfrm>
            <a:off x="4933800" y="315900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6"/>
          <p:cNvSpPr/>
          <p:nvPr/>
        </p:nvSpPr>
        <p:spPr>
          <a:xfrm>
            <a:off x="8058240" y="317196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7"/>
          <p:cNvSpPr/>
          <p:nvPr/>
        </p:nvSpPr>
        <p:spPr>
          <a:xfrm>
            <a:off x="8362800" y="366696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8"/>
          <p:cNvSpPr/>
          <p:nvPr/>
        </p:nvSpPr>
        <p:spPr>
          <a:xfrm>
            <a:off x="743040" y="4137120"/>
            <a:ext cx="652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40299"/>
          <p:cNvSpPr/>
          <p:nvPr/>
        </p:nvSpPr>
        <p:spPr>
          <a:xfrm>
            <a:off x="8286840" y="5546880"/>
            <a:ext cx="500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9265" descr=""/>
          <p:cNvPicPr/>
          <p:nvPr/>
        </p:nvPicPr>
        <p:blipFill>
          <a:blip r:embed="rId1"/>
          <a:stretch/>
        </p:blipFill>
        <p:spPr>
          <a:xfrm>
            <a:off x="446040" y="961920"/>
            <a:ext cx="8505720" cy="432432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9266"/>
          <p:cNvSpPr/>
          <p:nvPr/>
        </p:nvSpPr>
        <p:spPr>
          <a:xfrm>
            <a:off x="6496200" y="987480"/>
            <a:ext cx="398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9267"/>
          <p:cNvSpPr/>
          <p:nvPr/>
        </p:nvSpPr>
        <p:spPr>
          <a:xfrm>
            <a:off x="8337600" y="342576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68"/>
          <p:cNvSpPr/>
          <p:nvPr/>
        </p:nvSpPr>
        <p:spPr>
          <a:xfrm>
            <a:off x="4692600" y="489888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图片 138241" descr=""/>
          <p:cNvPicPr/>
          <p:nvPr/>
        </p:nvPicPr>
        <p:blipFill>
          <a:blip r:embed="rId1"/>
          <a:stretch/>
        </p:blipFill>
        <p:spPr>
          <a:xfrm>
            <a:off x="476280" y="898560"/>
            <a:ext cx="8496360" cy="4705200"/>
          </a:xfrm>
          <a:prstGeom prst="rect">
            <a:avLst/>
          </a:prstGeom>
          <a:ln w="0">
            <a:noFill/>
          </a:ln>
        </p:spPr>
      </p:pic>
      <p:sp>
        <p:nvSpPr>
          <p:cNvPr id="1354" name="矩形 138242"/>
          <p:cNvSpPr/>
          <p:nvPr/>
        </p:nvSpPr>
        <p:spPr>
          <a:xfrm>
            <a:off x="6318360" y="8478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3"/>
          <p:cNvSpPr/>
          <p:nvPr/>
        </p:nvSpPr>
        <p:spPr>
          <a:xfrm>
            <a:off x="3930480" y="131760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4"/>
          <p:cNvSpPr/>
          <p:nvPr/>
        </p:nvSpPr>
        <p:spPr>
          <a:xfrm>
            <a:off x="3828960" y="2320920"/>
            <a:ext cx="3281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5"/>
          <p:cNvSpPr/>
          <p:nvPr/>
        </p:nvSpPr>
        <p:spPr>
          <a:xfrm>
            <a:off x="870120" y="2803680"/>
            <a:ext cx="4906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6"/>
          <p:cNvSpPr/>
          <p:nvPr/>
        </p:nvSpPr>
        <p:spPr>
          <a:xfrm>
            <a:off x="2901960" y="3273480"/>
            <a:ext cx="5508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7"/>
          <p:cNvSpPr/>
          <p:nvPr/>
        </p:nvSpPr>
        <p:spPr>
          <a:xfrm>
            <a:off x="4743360" y="3298680"/>
            <a:ext cx="3713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8"/>
          <p:cNvSpPr/>
          <p:nvPr/>
        </p:nvSpPr>
        <p:spPr>
          <a:xfrm>
            <a:off x="819000" y="4327560"/>
            <a:ext cx="6558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9"/>
          <p:cNvSpPr/>
          <p:nvPr/>
        </p:nvSpPr>
        <p:spPr>
          <a:xfrm>
            <a:off x="679320" y="4809960"/>
            <a:ext cx="6558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50"/>
          <p:cNvSpPr/>
          <p:nvPr/>
        </p:nvSpPr>
        <p:spPr>
          <a:xfrm>
            <a:off x="679320" y="5343480"/>
            <a:ext cx="6558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7218" descr=""/>
          <p:cNvPicPr/>
          <p:nvPr/>
        </p:nvPicPr>
        <p:blipFill>
          <a:blip r:embed="rId1"/>
          <a:stretch/>
        </p:blipFill>
        <p:spPr>
          <a:xfrm>
            <a:off x="222120" y="933480"/>
            <a:ext cx="8191800" cy="339084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7219"/>
          <p:cNvSpPr/>
          <p:nvPr/>
        </p:nvSpPr>
        <p:spPr>
          <a:xfrm>
            <a:off x="5073480" y="276552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图片 136194" descr=""/>
          <p:cNvPicPr/>
          <p:nvPr/>
        </p:nvPicPr>
        <p:blipFill>
          <a:blip r:embed="rId1"/>
          <a:stretch/>
        </p:blipFill>
        <p:spPr>
          <a:xfrm>
            <a:off x="369720" y="933480"/>
            <a:ext cx="8124840" cy="3085920"/>
          </a:xfrm>
          <a:prstGeom prst="rect">
            <a:avLst/>
          </a:prstGeom>
          <a:ln w="0">
            <a:noFill/>
          </a:ln>
        </p:spPr>
      </p:pic>
      <p:sp>
        <p:nvSpPr>
          <p:cNvPr id="1366" name="矩形 136195"/>
          <p:cNvSpPr/>
          <p:nvPr/>
        </p:nvSpPr>
        <p:spPr>
          <a:xfrm>
            <a:off x="7651800" y="1571760"/>
            <a:ext cx="398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5170" descr=""/>
          <p:cNvPicPr/>
          <p:nvPr/>
        </p:nvPicPr>
        <p:blipFill>
          <a:blip r:embed="rId1"/>
          <a:stretch/>
        </p:blipFill>
        <p:spPr>
          <a:xfrm>
            <a:off x="314280" y="893880"/>
            <a:ext cx="8134560" cy="334332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5171"/>
          <p:cNvSpPr/>
          <p:nvPr/>
        </p:nvSpPr>
        <p:spPr>
          <a:xfrm>
            <a:off x="3765600" y="2117880"/>
            <a:ext cx="11602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5172"/>
          <p:cNvSpPr/>
          <p:nvPr/>
        </p:nvSpPr>
        <p:spPr>
          <a:xfrm>
            <a:off x="971640" y="2701800"/>
            <a:ext cx="7030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5173"/>
          <p:cNvSpPr/>
          <p:nvPr/>
        </p:nvSpPr>
        <p:spPr>
          <a:xfrm>
            <a:off x="1682640" y="3781440"/>
            <a:ext cx="7034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4145" descr=""/>
          <p:cNvPicPr/>
          <p:nvPr/>
        </p:nvPicPr>
        <p:blipFill>
          <a:blip r:embed="rId1"/>
          <a:stretch/>
        </p:blipFill>
        <p:spPr>
          <a:xfrm>
            <a:off x="171360" y="789120"/>
            <a:ext cx="8115480" cy="576252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4146"/>
          <p:cNvSpPr/>
          <p:nvPr/>
        </p:nvSpPr>
        <p:spPr>
          <a:xfrm>
            <a:off x="781200" y="4137120"/>
            <a:ext cx="37382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4147"/>
          <p:cNvSpPr/>
          <p:nvPr/>
        </p:nvSpPr>
        <p:spPr>
          <a:xfrm>
            <a:off x="831960" y="4772160"/>
            <a:ext cx="3738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4148"/>
          <p:cNvSpPr/>
          <p:nvPr/>
        </p:nvSpPr>
        <p:spPr>
          <a:xfrm>
            <a:off x="755640" y="5305320"/>
            <a:ext cx="37386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3121" descr=""/>
          <p:cNvPicPr/>
          <p:nvPr/>
        </p:nvPicPr>
        <p:blipFill>
          <a:blip r:embed="rId1"/>
          <a:stretch/>
        </p:blipFill>
        <p:spPr>
          <a:xfrm>
            <a:off x="210960" y="831960"/>
            <a:ext cx="8087040" cy="453384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3122"/>
          <p:cNvSpPr/>
          <p:nvPr/>
        </p:nvSpPr>
        <p:spPr>
          <a:xfrm>
            <a:off x="870120" y="3184560"/>
            <a:ext cx="540216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3123"/>
          <p:cNvSpPr/>
          <p:nvPr/>
        </p:nvSpPr>
        <p:spPr>
          <a:xfrm>
            <a:off x="768240" y="3768840"/>
            <a:ext cx="54025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3124"/>
          <p:cNvSpPr/>
          <p:nvPr/>
        </p:nvSpPr>
        <p:spPr>
          <a:xfrm>
            <a:off x="882720" y="4314960"/>
            <a:ext cx="71420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3125"/>
          <p:cNvSpPr/>
          <p:nvPr/>
        </p:nvSpPr>
        <p:spPr>
          <a:xfrm>
            <a:off x="907920" y="4886280"/>
            <a:ext cx="7142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1:18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